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45D1F-2C63-4B08-A266-265D94884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mall groups, describe a RCDS graduat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skills necessary to be successful in the 2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ntur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people learn best?  When they are enga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dge the new and the kn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students to be creative critical thinkers – we need to give them procedural knowledge on not what to think but how to thi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the question: what does it mean to think well?  What does it mean to be smar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cogn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ter Thinkers are better students – draw the design on board with the connection to self reflection and perspective buil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 – Process Continu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 it – Use it on the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them do the activity on chart paper – be prepared to share your six step pro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he gets you chart paper or something and t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students thinking along a continuum – from literal to inferential to evalu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it mean to understand something deeply?  Tie this to RCDS students becoming better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al models – ways of thinking – thinking w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ter students and better citizens – we need to help our students become better thin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think of this quote?  What type of learning experiences does RCDS provide that promotes the mission and vis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assess students in relationship to the vision/mission/go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are we know in relation to where we want to g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nstitutes a thinking curriculum? Commitment to knowledge, high thinking demand and active use of knowledge. The first is commitment to a knowledge c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7194-F86A-41DD-BB52-3ABE77437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04ED-2868-4805-979E-9C92120C2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DFA4-0201-4A08-821A-E532A2788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FD27-4325-4BAB-B21B-8EB9417EA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F9D9-0E8B-46F4-89A1-5E6E06678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71F5-0B45-4727-967C-3B14DDE03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1DCF-2F12-493A-ADF8-A8AA28951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7FB5-4D7D-44E8-BD0C-659DF734B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44CE-DF84-44D4-AC37-30102A8A8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2013-1F5E-406A-ABF7-AA1BA1D4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E4EA-24A2-4950-9704-59275FC0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023B-1816-48B0-961D-CB7793F7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ECA0D-D958-48C1-98BE-7DD0D961FE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empus Sans ITC"/>
              </a:rPr>
              <a:t>Focus\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ocus Ques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Where is RCDS now and where are you going as a learning community in preparing students for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llege, careers and citizenshi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 21st centur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Key Term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tter students, better thinkers, better citiz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8412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empus Sans ITC"/>
              </a:rPr>
              <a:t>Famous Quotes from Historical Fig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's one small step for man, one giant leap for manki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eil Armst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so, my fellow Americans, ask not what your country can do for you; ask what you can do for your count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John F. Kenne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look to a day when people will not be judged by the color of their skin, but by the content of their charac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rtin Luther King, Jr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empus Sans ITC"/>
              </a:rPr>
              <a:t>Famous Quotes from Historical Fig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me liberty or give me deat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rick Hen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 could have convinced more slaves that they were slaves, I could have freed thousands mo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riet Tubma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only regret that I have but one life to lose for my count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than Hal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8000"/>
                </a:solidFill>
                <a:latin typeface="Tempus Sans ITC"/>
              </a:rPr>
              <a:t>Famous Quotes from Historical Figure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tried marijuana once. I did not inha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lliam Clin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hard to fail, but it is worse never to have tried to succe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odore Rooseve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80880" y="609480"/>
            <a:ext cx="8458200" cy="46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empus Sans ITC"/>
              </a:rPr>
              <a:t>How do we enhance knowledg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he most straightforward way to enhance students’ academic background knowledge is to provide academically enriching experiences… I refer to such efforts as ‘direct approaches’… a direct approach to enhancing academic background knowledge is one that increases the variety and depth of              out-of-classroom experienc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Marzano, 2004, p. 14)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843680" y="4724280"/>
            <a:ext cx="13003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empus Sans ITC"/>
              </a:rPr>
              <a:t>Thin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True education is to learn how to think, not what to think.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Krishnamur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495680" y="3657600"/>
            <a:ext cx="365760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empus Sans ITC"/>
              </a:rPr>
              <a:t>Building Academic 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Identify essential academic terms an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ra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ms that have a high probability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ing academic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of a guaranteed, viable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Use a research-based process fo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ing new terms and phra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empus Sans ITC"/>
              </a:rPr>
              <a:t>Characteristics of Direct Vocabulary Instr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rely on defin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dents represent knowledge of words in linguistic and non-linguistic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dual shaping of word meanings through multiple expo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aching word parts to enhance underst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ypes of words require different types of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dents discuss new vocabu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dents play with new vocabula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 on terms that have a high probability of enhancing academic su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empus Sans ITC"/>
              </a:rPr>
              <a:t>6 Steps to Effective Vocabulary Instr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acher provides a description, explanation, or example of the new 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restate the explanation of the new term in their ow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create a non-linguistic representation of the 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periodically do activities that help them add to their knowledge of vocabulary 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odically students are asked to discuss the terms with one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odically students are involved in games that allow them to play with the 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tep 1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: The teacher provides a description, explanation, or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s are not en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critical features of the term that form the basis of the descrip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associated with measur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associated with a specific pro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associated with cubic un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Step 2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: Students restate the explanation of the new term in their own word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dents make meaning by storing the definitions of terms in their long-term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dents must process new terms actively and repeated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dents cannot copy the teacher’s expla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dents construct their own explanation based on what the teacher has pres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: “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Area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the space inside an object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Monique, Grade 4, personal communication October 2006)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empus Sans ITC"/>
              </a:rPr>
              <a:t>Rockland Country Day Sch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Radicibus Fortibus Floremu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rom Strong Roots We Flourish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85800" y="3048120"/>
            <a:ext cx="789948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Step 3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: Students create a non-linguistic representation of the ter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take place immediately after students have generated their own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resentations can take the forms of graphic organizers, picture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133720" y="5105520"/>
          <a:ext cx="4343400" cy="1177920"/>
        </p:xfrm>
        <a:graphic>
          <a:graphicData uri="http://schemas.openxmlformats.org/drawingml/2006/table">
            <a:tbl>
              <a:tblPr/>
              <a:tblGrid>
                <a:gridCol w="1031760"/>
                <a:gridCol w="1139760"/>
                <a:gridCol w="1085760"/>
                <a:gridCol w="1086120"/>
              </a:tblGrid>
              <a:tr h="118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6781680" y="51814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= 4 sq.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Step 4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: Students periodically do activities that help them add to their knowledge of vocabular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dents interact with vocabulary terms in many different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ring, classifying, generating metaphors, generating ana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dents revise their initial descriptions using new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dents use information of word roots, prefixes and suffixes to deepen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tep 5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: Periodically students are asked to discuss terms with each o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acher can pose questions to class and have students work in pairs or small groups to discuss vocabul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irs can consist of native English speakers and non-native English spea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for correct use of vocabulary to be practiced and mode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dents can confirm or discount initial descriptions or explanations of term – revise initial understan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Step 6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: Periodically students are involved in games that allow them to play with ter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have fun and experience terms in a new context and see them from a different persp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mes involve tasks that challenge the student’s present understanding but still allow for control over the level of challe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rporate g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 ch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word walls in g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empus Sans ITC"/>
              </a:rPr>
              <a:t>Social Studies and Science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fe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in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po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oufl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ber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niv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d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eb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ighbor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rb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vil R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i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empus Sans ITC"/>
              </a:rPr>
              <a:t>Math 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xa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 sym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832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inal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og c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pezo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empus Sans ITC"/>
              </a:rPr>
              <a:t>Making “Student Proficiency” Happe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2438280"/>
            <a:ext cx="807732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Proficienc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 they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know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t, and can they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3429000"/>
            <a:ext cx="2514600" cy="119124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Knowle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4267080"/>
            <a:ext cx="3429000" cy="119124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mprehe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48520" y="5943600"/>
            <a:ext cx="2666880" cy="6426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895480" y="3581280"/>
            <a:ext cx="609840" cy="533520"/>
          </a:xfrm>
          <a:custGeom>
            <a:avLst/>
            <a:gdLst>
              <a:gd name="textAreaLeft" fmla="*/ 203400 w 609840"/>
              <a:gd name="textAreaRight" fmla="*/ 522360 w 609840"/>
              <a:gd name="textAreaTop" fmla="*/ 307440 h 533520"/>
              <a:gd name="textAreaBottom" fmla="*/ 4572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7086600" y="5181480"/>
            <a:ext cx="609480" cy="533520"/>
          </a:xfrm>
          <a:custGeom>
            <a:avLst/>
            <a:gdLst>
              <a:gd name="textAreaLeft" fmla="*/ 203040 w 609480"/>
              <a:gd name="textAreaRight" fmla="*/ 522000 w 609480"/>
              <a:gd name="textAreaTop" fmla="*/ 307440 h 533520"/>
              <a:gd name="textAreaBottom" fmla="*/ 4572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220968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5105520"/>
            <a:ext cx="3429000" cy="6426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Understan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105520" y="4343400"/>
            <a:ext cx="609480" cy="533520"/>
          </a:xfrm>
          <a:custGeom>
            <a:avLst/>
            <a:gdLst>
              <a:gd name="textAreaLeft" fmla="*/ 203040 w 609480"/>
              <a:gd name="textAreaRight" fmla="*/ 522000 w 609480"/>
              <a:gd name="textAreaTop" fmla="*/ 307440 h 533520"/>
              <a:gd name="textAreaBottom" fmla="*/ 4572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6172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. Ho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121932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6840" y="456840"/>
            <a:ext cx="838188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“</a:t>
            </a:r>
            <a:r>
              <a:rPr b="0" lang="en-US" sz="3600" spc="-1" strike="noStrike">
                <a:solidFill>
                  <a:srgbClr val="333399"/>
                </a:solidFill>
                <a:latin typeface="Tempus Sans ITC"/>
              </a:rPr>
              <a:t>If she cannot learn the way we teach, we had better teach the way she can learn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-Robert Bu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219320" y="2819520"/>
            <a:ext cx="3733560" cy="269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Tempus Sans ITC"/>
              </a:rPr>
              <a:t>Forms of Identific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762120" y="1612800"/>
          <a:ext cx="8124840" cy="5245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612800"/>
                    <a:ext cx="8124840" cy="52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99036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empus Sans ITC"/>
              </a:rPr>
              <a:t>Identifying Similarities &amp; Dif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Rounded MT Bold"/>
              </a:rPr>
              <a:t>Present students with explicit gui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teacher-directed appro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accompany presentation with rich discussion and inqui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results in more specific “homogeneous” conclu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Rounded MT Bold"/>
              </a:rPr>
              <a:t>Ask students to independently identify similarities and 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tudent-directed approach w/o teacher inp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results in more divergent think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Rounded MT Bold"/>
              </a:rPr>
              <a:t>Represent similarities and differences in graphic or symbolic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Rounded MT Bold"/>
              </a:rPr>
              <a:t>Accomplish identification in a variety of ways with highly robust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28600" y="630360"/>
            <a:ext cx="8534520" cy="57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eacher-Directed </a:t>
            </a:r>
            <a:r>
              <a:rPr b="0" lang="en-US" sz="2800" spc="-1" strike="noStrike">
                <a:solidFill>
                  <a:srgbClr val="000099"/>
                </a:solidFill>
                <a:latin typeface="Arial Rounded MT Bold"/>
              </a:rPr>
              <a:t>Comparison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Rounded MT Bold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Present highly structured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Identify items to be compared &amp; characteristics on which the comparison will be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Rounded MT Bold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asks focus on conclusion students are to re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Rounded MT Bold"/>
              </a:rPr>
              <a:t>Ratio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Goal: all students attain same general awareness  of the same similarities &amp; dif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52520" y="1599840"/>
            <a:ext cx="3886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Rounded MT Bold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llow students select characteristics on which the items are to be compared (or both items &amp; characteristic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Rounded MT Bold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asks give students autonomy to reach different conclu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Rounded MT Bold"/>
              </a:rPr>
              <a:t>Ratio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Goal: all students attain general awareness  of varying similarities &amp; dif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48320" y="304920"/>
            <a:ext cx="39621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tudent-Directed </a:t>
            </a:r>
            <a:r>
              <a:rPr b="0" lang="en-US" sz="2800" spc="-1" strike="noStrike">
                <a:solidFill>
                  <a:srgbClr val="000099"/>
                </a:solidFill>
                <a:latin typeface="Arial Rounded MT Bold"/>
              </a:rPr>
              <a:t>Comparison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533520"/>
            <a:ext cx="0" cy="5715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3520" y="1371600"/>
            <a:ext cx="80769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empus Sans ITC"/>
              </a:rPr>
              <a:t>Graphic Organizers for Compari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1523880"/>
            <a:ext cx="2666880" cy="2667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819520"/>
            <a:ext cx="2667240" cy="2666880"/>
          </a:xfrm>
          <a:prstGeom prst="ellipse">
            <a:avLst/>
          </a:prstGeom>
          <a:solidFill>
            <a:srgbClr val="0000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505320" y="2581200"/>
          <a:ext cx="6248160" cy="4276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05320" y="2581200"/>
                    <a:ext cx="6248160" cy="42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609480" y="5638680"/>
            <a:ext cx="221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Venn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5800" y="304920"/>
            <a:ext cx="3809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eacher-Directed </a:t>
            </a:r>
            <a:r>
              <a:rPr b="0" lang="en-US" sz="2800" spc="-1" strike="noStrike">
                <a:solidFill>
                  <a:srgbClr val="000099"/>
                </a:solidFill>
                <a:latin typeface="Arial Rounded MT Bold"/>
              </a:rPr>
              <a:t>Classification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1447920"/>
            <a:ext cx="40384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Rounded MT Bold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Present highly structured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Give elements to classify &amp; categories into which they will be class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Rounded MT Bold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asks focus on conclusion students are to re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Rounded MT Bold"/>
              </a:rPr>
              <a:t>Ratio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Goal: all students attain same general awareness  of the same similarities &amp; dif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952880" y="1600200"/>
            <a:ext cx="38862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Rounded MT Bold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Give students items to classify but allow them to form categ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Rounded MT Bold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asks give students autonomy to reach different conclu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Rounded MT Bold"/>
              </a:rPr>
              <a:t>Ratio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Goal: all students attain general awareness  of varying similarities &amp; dif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04920"/>
            <a:ext cx="39621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tudent-Directed </a:t>
            </a:r>
            <a:r>
              <a:rPr b="0" lang="en-US" sz="2800" spc="-1" strike="noStrike">
                <a:solidFill>
                  <a:srgbClr val="000099"/>
                </a:solidFill>
                <a:latin typeface="Arial Rounded MT Bold"/>
              </a:rPr>
              <a:t>Classification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533520"/>
            <a:ext cx="0" cy="5715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1371600"/>
            <a:ext cx="80769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8000"/>
                </a:solidFill>
                <a:latin typeface="Tempus Sans ITC"/>
              </a:rPr>
              <a:t>Focus\Goa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ocus Ques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Where is RCDS now and where are you going as a learning community in preparing students for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llege, careers and citizenshi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 21st centur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Key Ter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Better students, better thinkers, better citiz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8412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8000"/>
                </a:solidFill>
                <a:latin typeface="Tempus Sans ITC"/>
              </a:rPr>
              <a:t>RCDS Vis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ing students thrive academically and socially through our commitment to focusing on the individu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743200" y="3505320"/>
            <a:ext cx="3657600" cy="22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8000"/>
                </a:solidFill>
                <a:latin typeface="Tempus Sans ITC"/>
              </a:rPr>
              <a:t>Mission Statem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ckland Country Day School brings forth the best in every student by knowing and educating each of them as an individual.  The pillars of our college preparatory program ar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ritical thinking, creative expression, and the cherishing of divers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  Our unique environment enables every child to thrive, both academically and soci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Tempus Sans ITC"/>
              </a:rPr>
              <a:t>Well-Rounded Educ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s not a question of content versus skills – it’s about creating challenging, profoundly engaging, and authentic educational experiences that produce lifelong learn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chard H. Her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 algn="ctr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572000" y="3886200"/>
            <a:ext cx="321480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7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8000"/>
                </a:solidFill>
                <a:latin typeface="Tempus Sans ITC"/>
              </a:rPr>
              <a:t>A Framework for Shared Goal Setting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19720" y="1371240"/>
            <a:ext cx="41148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Focus: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create shared clarity of thought, direction, and purpo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Reflection: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learn from the past and identify ways of accomplishing goa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Collaboration: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come together to share knowledge and ide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Conzemius &amp; O’Nei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4"/>
          <p:cNvSpPr/>
          <p:nvPr/>
        </p:nvSpPr>
        <p:spPr>
          <a:xfrm>
            <a:off x="914400" y="2590920"/>
            <a:ext cx="3657600" cy="2590560"/>
          </a:xfrm>
          <a:prstGeom prst="triangle">
            <a:avLst>
              <a:gd name="adj" fmla="val 50000"/>
            </a:avLst>
          </a:prstGeom>
          <a:solidFill>
            <a:srgbClr val="ff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2743200" y="5257800"/>
            <a:ext cx="2743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entury Gothic"/>
                <a:ea typeface="Arial"/>
              </a:rPr>
              <a:t>COLLAB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entury Gothic"/>
                <a:ea typeface="Arial"/>
              </a:rPr>
              <a:t>How will we get the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1143000" y="1828800"/>
            <a:ext cx="3200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entury Gothic"/>
                <a:ea typeface="Arial"/>
              </a:rPr>
              <a:t>FO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entury Gothic"/>
                <a:ea typeface="Arial"/>
              </a:rPr>
              <a:t>Where do we want to b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152280" y="5257800"/>
            <a:ext cx="2590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entury Gothic"/>
                <a:ea typeface="Arial"/>
              </a:rPr>
              <a:t>REF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entury Gothic"/>
                <a:ea typeface="Arial"/>
              </a:rPr>
              <a:t>Where are we now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empus Sans ITC"/>
              </a:rPr>
              <a:t>Features and Indicators of Academic Rig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empus Sans ITC"/>
              </a:rPr>
              <a:t>Commitment to a Knowledge C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empus Sans ITC"/>
              </a:rPr>
              <a:t>Curricul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empus Sans ITC"/>
              </a:rPr>
              <a:t>High Thinking Dem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empus Sans ITC"/>
              </a:rPr>
              <a:t>Instr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empus Sans ITC"/>
              </a:rPr>
              <a:t>Active Use of Knowle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empus Sans ITC"/>
              </a:rPr>
              <a:t>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705720" y="4343400"/>
            <a:ext cx="182088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empus Sans ITC"/>
              </a:rPr>
              <a:t>Rigor</a:t>
            </a: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: </a:t>
            </a:r>
            <a:r>
              <a:rPr b="0" i="1" lang="en-US" sz="3600" spc="-1" strike="noStrike">
                <a:solidFill>
                  <a:srgbClr val="008000"/>
                </a:solidFill>
                <a:latin typeface="Tempus Sans ITC"/>
              </a:rPr>
              <a:t>Commitment to a Knowledge C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At RCDS, we should have an articulated </a:t>
            </a:r>
            <a:r>
              <a:rPr b="0" lang="en-US" sz="3200" spc="-1" strike="noStrike">
                <a:solidFill>
                  <a:srgbClr val="ff0000"/>
                </a:solidFill>
                <a:latin typeface="Tempus Sans ITC"/>
              </a:rPr>
              <a:t>curriculum</a:t>
            </a: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 that avoids needless repetition, is  </a:t>
            </a:r>
            <a:r>
              <a:rPr b="0" lang="en-US" sz="3200" spc="-1" strike="noStrike">
                <a:solidFill>
                  <a:srgbClr val="ff0000"/>
                </a:solidFill>
                <a:latin typeface="Tempus Sans ITC"/>
              </a:rPr>
              <a:t>instructionally </a:t>
            </a: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organized around major concepts, and </a:t>
            </a:r>
            <a:r>
              <a:rPr b="0" lang="en-US" sz="3200" spc="-1" strike="noStrike">
                <a:solidFill>
                  <a:srgbClr val="ff0000"/>
                </a:solidFill>
                <a:latin typeface="Tempus Sans ITC"/>
              </a:rPr>
              <a:t>assessments </a:t>
            </a: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that are focused on the mastery of core concep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248520" y="4343400"/>
            <a:ext cx="218592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2T14:18:52Z</dcterms:created>
  <dc:creator>North Rockland High School</dc:creator>
  <dc:description/>
  <dc:language>en-US</dc:language>
  <cp:lastModifiedBy>North Rockland High School</cp:lastModifiedBy>
  <dcterms:modified xsi:type="dcterms:W3CDTF">2010-11-24T17:18:22Z</dcterms:modified>
  <cp:revision>4</cp:revision>
  <dc:subject/>
  <dc:title>Rockland Country Day School</dc:title>
</cp:coreProperties>
</file>